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805-5716-4B5D-A7EA-1768342A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C97-B32A-40EE-8601-A1489C1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C4A-8059-45A4-A1E9-23B65F8F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8EE-A143-49D9-9608-960B2617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69C-B944-43A6-9516-9FA0A9ED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EAF-EC9E-4755-84D0-0B473F8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453-4963-4F2D-9E24-6D559844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5A9-9B30-49E5-9E98-E9166282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D67-224E-4575-9EE9-FB04EAD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CA8-3AD7-4803-AA16-4A5EEA7A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6C7-9D8E-4D91-A2A4-5BD3D06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453-49CF-4C4B-AB7E-27A65E4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1C6-49FE-4D51-99EC-A30AC3B5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        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6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7222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para la Prueba: Repaso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s many Spanish words as you can think of associated wit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731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 el adje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33360" y="1523880"/>
            <a:ext cx="164772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1716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670572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5"/>
          <a:stretch/>
        </p:blipFill>
        <p:spPr>
          <a:xfrm>
            <a:off x="380880" y="4446720"/>
            <a:ext cx="1524240" cy="14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6"/>
          <a:stretch/>
        </p:blipFill>
        <p:spPr>
          <a:xfrm>
            <a:off x="2378160" y="4267080"/>
            <a:ext cx="13557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7"/>
          <a:stretch/>
        </p:blipFill>
        <p:spPr>
          <a:xfrm>
            <a:off x="4390920" y="4419720"/>
            <a:ext cx="1857600" cy="169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8"/>
          <a:stretch/>
        </p:blipFill>
        <p:spPr>
          <a:xfrm>
            <a:off x="6819840" y="4343400"/>
            <a:ext cx="1762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90676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 con una palabra aprop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escuela secundaria en México es un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saca buenas notas y estudia mucho. Ella es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o saca una F en ciencia. Él es un estudiante muy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appropriate words and e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 alumn___ es una buen___ ami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______ curso de educación física es bastante fácil pero ______ cursos de historia y ciencia son difícil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______ alumnos en mi clase de matemáticas son muy inteligent____ y cómic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IV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oose the correct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 muy se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é que nacionalidad _______ e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amigos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 una buena am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_ tú un buen estudi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92120" y="165564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397520" y="269712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47920" y="388620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47920" y="4906800"/>
            <a:ext cx="50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473480" y="609588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V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wer in full Spanish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De dónde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De qué nacionalidad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Dónde eres alumn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Es grande o pequeña tu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¿Cómo es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Son ustedes buenos o malos alumn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Repaso Gramatical: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rbos -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220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spañol, los verbos terminan en –AR,--ER o –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In Spanish, all verbs end in –AR, -ER, or –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conjugar los verbos –AR en el presente, remplazamos la terminación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to conjugate –AR verbs in the present, replace ending 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follows)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ff"/>
                </a:solidFill>
                <a:latin typeface="Arial"/>
              </a:rPr>
              <a:t>-A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Ella Ud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sotros-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Ellas Uds.  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90% of all Spanish Verbs end in –AR!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9"/>
          <p:cNvSpPr/>
          <p:nvPr/>
        </p:nvSpPr>
        <p:spPr>
          <a:xfrm>
            <a:off x="3696120" y="37339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9"/>
          <p:cNvSpPr/>
          <p:nvPr/>
        </p:nvSpPr>
        <p:spPr>
          <a:xfrm>
            <a:off x="3711240" y="411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3694320" y="45673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9"/>
          <p:cNvSpPr/>
          <p:nvPr/>
        </p:nvSpPr>
        <p:spPr>
          <a:xfrm>
            <a:off x="3735720" y="49482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9"/>
          <p:cNvSpPr/>
          <p:nvPr/>
        </p:nvSpPr>
        <p:spPr>
          <a:xfrm>
            <a:off x="3704760" y="54817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CONVERSACION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 la tienda de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Z REPASO A on THURS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: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5:11:16Z</dcterms:created>
  <dc:creator>Helen Zumaeta</dc:creator>
  <dc:description/>
  <dc:language>en-US</dc:language>
  <cp:lastModifiedBy>Helen Zumaeta</cp:lastModifiedBy>
  <cp:lastPrinted>2014-09-16T12:36:55Z</cp:lastPrinted>
  <dcterms:modified xsi:type="dcterms:W3CDTF">2014-09-16T16:56:24Z</dcterms:modified>
  <cp:revision>15</cp:revision>
  <dc:subject/>
  <dc:title>Me llamo __________ Clase 6 nh/im La fecha es el 5 de enero del 2011</dc:title>
</cp:coreProperties>
</file>